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2569-BE2A-4ECC-836B-250478F6D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2733-1935-43F0-8BE6-38BB99E50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eaturepics.com/online/Green-Plants-Background-1387747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8B5E-0095-4C2A-9371-66E17C417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howstuffworks.com/dictionary/plant-terms/stem-info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1C15-B9B5-44B2-BA55-B66033C78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.unm.edu/ccouncil/Biology_203/Summaries/FloweringPlant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2BF5-E13D-4382-88EA-54FF9E3E1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potato tubers from: http://www.allwallpapershome.com/home-design-wallpapers/59278/tube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8248-3A7D-4817-A66E-D8AECF4D9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uperstaar.org/grade-2/life-science/210-adaptations-and-life-cycles/210b-characteristics-of-plants/water-movement-in-plant-ste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AC58-9BD2-4B27-A7BB-4E75D3446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nhabitat.com/plants-can-talk-to-each-other-by-clicking-their-roo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E46D-2198-48B2-9B5A-624DA8A21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catedemeter.wordpress.com/2011/10/15/grounding-in-autumn-what-a-witch-does/roo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3CF2-9863-42AA-B98B-DC779B2C5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hhe.com/biosci/esp/2001_gbio/folder_structure/pl/m2/s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AFAB-2AED-496D-88EF-E29493AC6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acweb.furman.edu/~lthompson/bgy34/plantanatomy/plant_roo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EFD2-88EB-444A-89FB-85775BC3B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from: http://answers.tutorvista.com/1087391/what-is-the-difference-of-endodermis-of-monocot-root-and-dicot-roo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26AE-424C-4005-9803-051BC1EC5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mycorrhizae: http://en.wikipedia.org/wiki/Mycorrhi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4008-3280-403B-BEFD-4836EAD39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isglory.com/photos2/Green%20Leav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1A1B-08D5-4AED-B185-B6BB38FC3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nitafredericks.com/food-focus-root-vegetables-2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A4AA-DB59-443E-A3E7-2AA652852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.lifeeasy.org/810/what-is-the-difference-between-simple-leaf-and-compound-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76B9-A93F-4256-9DC7-3849B2EC2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bc.co.uk/bitesize/standard/biology/world_of_plants/making_food/revision/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AAB8-174E-49FC-9A5A-D8B653887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hite spruce from: http://simple.wikipedia.org/wiki/Gymn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0C2F-2F2C-493F-99D3-969230AE5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onut leaves used for roofing in Sri Lanka.  Image from: http://blog.trekurious.com/coconut-and-its-many-us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octaviatea.com/pages/tea-guid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from: http://cooking.stackexchange.com/questions/26002/what-is-the-difference-between-green-white-and-black-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29BC-4EE6-4427-ADA4-FFA8C736B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70FF-D018-4D1C-88C0-F6B51BCD6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uperstaar.org/grade-2/life-science/210-adaptations-and-life-cycles/210b-characteristics-of-plants/water-movement-in-plant-ste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35D2-7719-4CD0-AA02-AB5A15901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allpaperswide.com/bamboo_stems-wallpap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DB5-B1C6-4526-A3D5-A18B0E9C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6AA-0199-4EC4-8EAF-7FA21CE8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F14-A56C-4CA1-B3E7-8D30A450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6AF-E815-4726-9CCA-83996DBE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E1D-882B-4B30-8D2B-C2E13D03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38F-4435-416F-83B6-BC9C450E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9B8-3E0B-44F2-953C-7DAA5B7C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0A86-08AD-442A-99C1-46FBD56C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3014-1374-43F3-ADD7-FAB690DF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6AD-2583-4C2E-9695-7EC45433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99DB-3840-451F-86E6-2AB8EAE8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458-A139-408B-A6EE-6200D2EA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AAF4-6C25-4292-AE7A-AB8C258AF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t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ves, stems, &amp; 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baceous vs. Wo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stem-info0"/>
          <p:cNvPicPr/>
          <p:nvPr/>
        </p:nvPicPr>
        <p:blipFill>
          <a:blip r:embed="rId1"/>
          <a:stretch/>
        </p:blipFill>
        <p:spPr>
          <a:xfrm>
            <a:off x="2411280" y="1981080"/>
            <a:ext cx="4319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cot vs. Eudicot 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MonocotDicotStemOverview"/>
          <p:cNvPicPr/>
          <p:nvPr/>
        </p:nvPicPr>
        <p:blipFill>
          <a:blip r:embed="rId1"/>
          <a:stretch/>
        </p:blipFill>
        <p:spPr>
          <a:xfrm>
            <a:off x="304920" y="1932120"/>
            <a:ext cx="853416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 Specia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ground stems (tubers – e.g., potatoes, corms, rhizomes – e.g. ginger) store water and starch &amp; help with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tubers-10"/>
          <p:cNvPicPr/>
          <p:nvPr/>
        </p:nvPicPr>
        <p:blipFill>
          <a:blip r:embed="rId1"/>
          <a:stretch/>
        </p:blipFill>
        <p:spPr>
          <a:xfrm>
            <a:off x="4572000" y="2465280"/>
            <a:ext cx="41911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-based products (furniture, paper, etc.) &amp; wood for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 (firewood, bio-ethanol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(potatoes, asparagus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iles (linen, hemp, bamboo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al uses (quinine bark, ginger,</a:t>
            </a: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Ro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 plant and keep it up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 water &amp; nutrients from the soil or 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roots"/>
          <p:cNvPicPr/>
          <p:nvPr/>
        </p:nvPicPr>
        <p:blipFill>
          <a:blip r:embed="rId1"/>
          <a:stretch/>
        </p:blipFill>
        <p:spPr>
          <a:xfrm>
            <a:off x="4495680" y="2614680"/>
            <a:ext cx="42674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lm2s4_1"/>
          <p:cNvPicPr/>
          <p:nvPr/>
        </p:nvPicPr>
        <p:blipFill>
          <a:blip r:embed="rId1"/>
          <a:stretch/>
        </p:blipFill>
        <p:spPr>
          <a:xfrm>
            <a:off x="685800" y="912960"/>
            <a:ext cx="777240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roottip_labled"/>
          <p:cNvPicPr/>
          <p:nvPr/>
        </p:nvPicPr>
        <p:blipFill>
          <a:blip r:embed="rId1"/>
          <a:stretch/>
        </p:blipFill>
        <p:spPr>
          <a:xfrm>
            <a:off x="1812960" y="609480"/>
            <a:ext cx="5516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mon"/>
          <p:cNvPicPr/>
          <p:nvPr/>
        </p:nvPicPr>
        <p:blipFill>
          <a:blip r:embed="rId1"/>
          <a:stretch/>
        </p:blipFill>
        <p:spPr>
          <a:xfrm>
            <a:off x="609480" y="2293920"/>
            <a:ext cx="3886200" cy="2498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root"/>
          <p:cNvPicPr/>
          <p:nvPr/>
        </p:nvPicPr>
        <p:blipFill>
          <a:blip r:embed="rId2"/>
          <a:stretch/>
        </p:blipFill>
        <p:spPr>
          <a:xfrm>
            <a:off x="4572000" y="1771560"/>
            <a:ext cx="38862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Specia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80% of plants involved in  mycorrhiz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-fixing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220px-Mycorrhizal_root_tips_(amanita)"/>
          <p:cNvPicPr/>
          <p:nvPr/>
        </p:nvPicPr>
        <p:blipFill>
          <a:blip r:embed="rId1"/>
          <a:stretch/>
        </p:blipFill>
        <p:spPr>
          <a:xfrm>
            <a:off x="5045040" y="1600200"/>
            <a:ext cx="3168720" cy="2362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076_nitrogen"/>
          <p:cNvPicPr/>
          <p:nvPr/>
        </p:nvPicPr>
        <p:blipFill>
          <a:blip r:embed="rId2"/>
          <a:stretch/>
        </p:blipFill>
        <p:spPr>
          <a:xfrm>
            <a:off x="4267080" y="4038480"/>
            <a:ext cx="403884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site of photosynthesis in most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exchange between interior of plant and extern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Green Leaves"/>
          <p:cNvPicPr/>
          <p:nvPr/>
        </p:nvPicPr>
        <p:blipFill>
          <a:blip r:embed="rId1"/>
          <a:stretch/>
        </p:blipFill>
        <p:spPr>
          <a:xfrm>
            <a:off x="4572000" y="2055960"/>
            <a:ext cx="42670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Ro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ticides (e.g., garlic, on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al (e.g., ginse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Root-Vegetables-Photo-610x408"/>
          <p:cNvPicPr/>
          <p:nvPr/>
        </p:nvPicPr>
        <p:blipFill>
          <a:blip r:embed="rId1"/>
          <a:stretch/>
        </p:blipFill>
        <p:spPr>
          <a:xfrm>
            <a:off x="4495680" y="2624040"/>
            <a:ext cx="43434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of 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imple_compound_lvs01"/>
          <p:cNvPicPr/>
          <p:nvPr/>
        </p:nvPicPr>
        <p:blipFill>
          <a:blip r:embed="rId1"/>
          <a:stretch/>
        </p:blipFill>
        <p:spPr>
          <a:xfrm>
            <a:off x="2536920" y="1981080"/>
            <a:ext cx="407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leaf_structure_al"/>
          <p:cNvPicPr/>
          <p:nvPr/>
        </p:nvPicPr>
        <p:blipFill>
          <a:blip r:embed="rId1"/>
          <a:stretch/>
        </p:blipFill>
        <p:spPr>
          <a:xfrm>
            <a:off x="952560" y="609480"/>
            <a:ext cx="7237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 Specia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 of plants through physical or chemical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ymnosperm leaves specialized to prevents cells from fr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220px-Fichtennadel"/>
          <p:cNvPicPr/>
          <p:nvPr/>
        </p:nvPicPr>
        <p:blipFill>
          <a:blip r:embed="rId1"/>
          <a:stretch/>
        </p:blipFill>
        <p:spPr>
          <a:xfrm>
            <a:off x="4648320" y="1676520"/>
            <a:ext cx="411480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&amp; beverages, e.g., various herb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mellia sinen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x (from cuticle) used in cosmetic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ns &amp; psychotropic chemicals used in medicin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IMG_2860"/>
          <p:cNvPicPr/>
          <p:nvPr/>
        </p:nvPicPr>
        <p:blipFill>
          <a:blip r:embed="rId1"/>
          <a:stretch/>
        </p:blipFill>
        <p:spPr>
          <a:xfrm>
            <a:off x="4938840" y="1523880"/>
            <a:ext cx="3305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3670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, green, oolong, &amp; black tea all come from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mellia sinen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in processing lead to different amounts of caffeine &amp; antioxid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4" descr="types-of-tea.jpg"/>
          <p:cNvPicPr/>
          <p:nvPr/>
        </p:nvPicPr>
        <p:blipFill>
          <a:blip r:embed="rId1"/>
          <a:srcRect l="-35491" t="0" r="-35491" b="0"/>
          <a:stretch/>
        </p:blipFill>
        <p:spPr>
          <a:xfrm>
            <a:off x="4572000" y="1557360"/>
            <a:ext cx="3816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vascular tissue in leaves to vascular tissue i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other structures o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bamboo_stems-t2"/>
          <p:cNvPicPr/>
          <p:nvPr/>
        </p:nvPicPr>
        <p:blipFill>
          <a:blip r:embed="rId1"/>
          <a:stretch/>
        </p:blipFill>
        <p:spPr>
          <a:xfrm>
            <a:off x="4343400" y="2558880"/>
            <a:ext cx="45720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13:46:10Z</dcterms:created>
  <dc:creator>rubina khan</dc:creator>
  <dc:description/>
  <dc:language>en-US</dc:language>
  <cp:lastModifiedBy>rubina khan</cp:lastModifiedBy>
  <dcterms:modified xsi:type="dcterms:W3CDTF">2016-11-22T15:56:13Z</dcterms:modified>
  <cp:revision>103</cp:revision>
  <dc:subject/>
  <dc:title>PowerPoint Presentation</dc:title>
</cp:coreProperties>
</file>